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72"/>
                </a:solidFill>
                <a:latin typeface="Futu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5A3-8DB2-4DD3-AAD3-6AF9DF4F0BFC}" type="slidenum">
              <a:rPr b="0" lang="en-US" sz="1200" spc="-1" strike="noStrike">
                <a:solidFill>
                  <a:srgbClr val="727272"/>
                </a:solidFill>
                <a:latin typeface="Futura"/>
              </a:rPr>
              <a:t>&lt;number&gt;</a:t>
            </a:fld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674-8F93-41C4-A858-BDEE9DBCB976}" type="slidenum">
              <a:rPr b="0" lang="en-US" sz="1200" spc="-1" strike="noStrike">
                <a:solidFill>
                  <a:srgbClr val="727272"/>
                </a:solidFill>
                <a:latin typeface="Futura"/>
              </a:rPr>
              <a:t>&lt;number&gt;</a:t>
            </a:fld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http://www.opencourtresources.com</a:t>
            </a:r>
            <a:endParaRPr b="0" lang="en-US" sz="12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2361960"/>
            <a:ext cx="9816840" cy="14857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3835440"/>
            <a:ext cx="9816840" cy="6984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t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1" marL="61560" indent="-6156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2" marL="61560" indent="-61560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3" marL="61560" indent="-6156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4" marL="61560" indent="-61560" algn="ctr">
              <a:buClr>
                <a:srgbClr val="ffffff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5" marL="61560" indent="-6156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6" marL="61560" indent="-6156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90720" y="1790280"/>
            <a:ext cx="3936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4564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7066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9568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21644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46700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95000" y="3784680"/>
            <a:ext cx="458460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3000"/>
          </a:bodyPr>
          <a:p>
            <a:pPr marL="250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250200" indent="-25020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250200" indent="-250200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250200" indent="-25020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250200" indent="-25020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250200" indent="-25020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250200" indent="-25020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95000" y="1549080"/>
            <a:ext cx="4584600" cy="213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560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93420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25316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58400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190296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9271080" y="165240"/>
            <a:ext cx="812880" cy="72770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070680" y="1790280"/>
            <a:ext cx="309888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40644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62928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85212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08324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30608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306080" indent="-26604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306080" indent="-26604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7212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116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3056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67148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0088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00880" indent="-428040">
              <a:spcBef>
                <a:spcPts val="7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00880" indent="-428040">
              <a:spcBef>
                <a:spcPts val="7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620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476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478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70352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462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46240" indent="-446040">
              <a:spcBef>
                <a:spcPts val="18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46240" indent="-446040">
              <a:spcBef>
                <a:spcPts val="18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560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93420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25316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58400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190296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3"/>
          <p:cNvGrpSpPr/>
          <p:nvPr/>
        </p:nvGrpSpPr>
        <p:grpSpPr>
          <a:xfrm>
            <a:off x="8013600" y="190440"/>
            <a:ext cx="1967040" cy="7265880"/>
            <a:chOff x="8013600" y="190440"/>
            <a:chExt cx="1967040" cy="7265880"/>
          </a:xfrm>
        </p:grpSpPr>
        <p:sp>
          <p:nvSpPr>
            <p:cNvPr id="190" name="Rectangle 4"/>
            <p:cNvSpPr/>
            <p:nvPr/>
          </p:nvSpPr>
          <p:spPr>
            <a:xfrm>
              <a:off x="8013600" y="2138400"/>
              <a:ext cx="1967040" cy="531792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32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>
              <a:off x="8013600" y="190440"/>
              <a:ext cx="1967040" cy="195732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7835760" cy="19558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18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4880" y="3060360"/>
            <a:ext cx="9816840" cy="14857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90720" y="1790280"/>
            <a:ext cx="3936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4564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7066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9568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21644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46700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5320" indent="-40932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968400" indent="-40968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1311120" indent="-40932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666800" indent="-40932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2009880" indent="-40968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2009880" indent="-40968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2009880" indent="-40968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4880" y="2361960"/>
            <a:ext cx="9816840" cy="14857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Look Again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64880" y="3835440"/>
            <a:ext cx="9816840" cy="6984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2857680" y="2387520"/>
            <a:ext cx="4800600" cy="49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2349360"/>
            <a:ext cx="4444920" cy="40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540160" y="1905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2540160" y="248904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070000" y="2463840"/>
            <a:ext cx="50799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174840" y="3111480"/>
            <a:ext cx="381024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705040" y="2806560"/>
            <a:ext cx="4754520" cy="31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2540160" y="3365640"/>
            <a:ext cx="507996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3772080" y="1569960"/>
            <a:ext cx="2171520" cy="52246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3238560" y="1892160"/>
            <a:ext cx="3670200" cy="555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641680" y="2489040"/>
            <a:ext cx="5079960" cy="37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1765440" y="2197080"/>
            <a:ext cx="662940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78928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eacher</cp:lastModifiedBy>
  <dcterms:modified xsi:type="dcterms:W3CDTF">2011-10-25T03:40:09Z</dcterms:modified>
  <cp:revision>2</cp:revision>
  <dc:subject/>
  <dc:title>Look Again</dc:title>
</cp:coreProperties>
</file>